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3851-11AA-411C-A24A-65B9F027E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AB93-6A27-46B0-8596-D2873C84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D201-B1F2-488A-9694-BE6716006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B6DE-4F6C-49CB-81A4-C7B8AB1C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3353-998E-40E8-85A8-CD88D57C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814A-02AC-458F-96B2-EF73F0E6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7E7E-C114-4046-82DE-D1B659D6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77DB-6AC7-4BCC-B4C0-80A4EFA6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1DBB-C782-4CA8-B73E-9E87371B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7738-3D52-4A50-BB54-46C9CDBD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2D35-7A60-41AA-97D5-6FEADFA4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340F-B6E9-409F-956F-A849EBFB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73D0-C446-413E-88A8-5DB4173BB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ding Community Through Virtual Worlds in K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a Dur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fording Christian Acade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3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uss your though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the SL chat now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¿Why do digital natives seem to feel that their elders are untrustwort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90600" y="254160"/>
            <a:ext cx="476280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97160" y="1041480"/>
            <a:ext cx="634968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397160" y="1047600"/>
            <a:ext cx="63496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690228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61722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uss your though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the SL chat now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K12 classroom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loit virtual learning environment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th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acus Capali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riVonne Lust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na Koh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wenette Wri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97160" y="1047600"/>
            <a:ext cx="63496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 Page at http://acsiseminar.wikispaces.com/Bio+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97160" y="1314360"/>
            <a:ext cx="63496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ew Report found that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5% of teens use em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7% of teens play video g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% of teens play in a virtual wor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learning in a virtual world different from learning in a traditional classroo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learn in a virtual wor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virtual world do you prefer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ould learning in a virtual world be used in one content area classroo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ould learning in a virtual world be used in one content area classroo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2% of respondents feel learning in a virtual world is easier than learning in a traditional classroom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8% report learning social skills in virtual world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4% focus upon musical / artistic content in virtual world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5% of respondents enjoy sims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4% like Webkin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9% prefer Club Pengui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% enjoy runesca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le 9 wrote in virtual worlds they frequent that I didn't even lis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022400"/>
            <a:ext cx="909648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86800" cy="48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23:53:01Z</dcterms:created>
  <dc:creator>HP Authorized Customer</dc:creator>
  <dc:description/>
  <dc:language>en-US</dc:language>
  <cp:lastModifiedBy>HP Authorized Customer</cp:lastModifiedBy>
  <dcterms:modified xsi:type="dcterms:W3CDTF">2009-03-27T02:54:28Z</dcterms:modified>
  <cp:revision>28</cp:revision>
  <dc:subject/>
  <dc:title>Virtual Worlds Best Practices Conference Building Community Through Virtual Worlds in K12</dc:title>
</cp:coreProperties>
</file>